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B31-A666-40DF-AFB3-8BF37081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5EE-284C-4D5C-B1EC-3474BE54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E4D-A771-42EE-8AAF-5245563C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820-71F8-447B-B9A7-C92976E0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6FF-5949-44A6-9762-E7463E79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A22-8284-4D54-AA66-448BB925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E4E-9CCE-48C2-A492-825CF158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C46-3506-49CA-AC7D-A19FD3B4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F00-37F0-40AE-B0B9-775CEB1B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41F-F79C-409C-B97B-A2CBEB27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64A-265F-45D6-B198-1E9EBE6C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072-B729-4C11-8AB9-5B531B43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BA3C-CEDF-4BAB-AAFF-68F35E492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LESS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3520" y="2362320"/>
            <a:ext cx="7924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and SUBTRAC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838080" y="380880"/>
            <a:ext cx="7696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FRACTION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04920" y="114300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If subtraction ADD the OPPOSITE* Common Denominator                     or Cross Multip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609480" y="3352680"/>
                <a:ext cx="19749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Rectangle 6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7"/>
              <p:cNvSpPr txBox="1"/>
              <p:nvPr/>
            </p:nvSpPr>
            <p:spPr>
              <a:xfrm>
                <a:off x="2590920" y="3352680"/>
                <a:ext cx="971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762120" y="4800600"/>
                <a:ext cx="1371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2"/>
              <p:cNvSpPr txBox="1"/>
              <p:nvPr/>
            </p:nvSpPr>
            <p:spPr>
              <a:xfrm>
                <a:off x="2019240" y="4925880"/>
                <a:ext cx="19065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3"/>
              <p:cNvSpPr txBox="1"/>
              <p:nvPr/>
            </p:nvSpPr>
            <p:spPr>
              <a:xfrm>
                <a:off x="3962520" y="4905360"/>
                <a:ext cx="8697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4"/>
              <p:cNvSpPr txBox="1"/>
              <p:nvPr/>
            </p:nvSpPr>
            <p:spPr>
              <a:xfrm>
                <a:off x="4959360" y="4905360"/>
                <a:ext cx="7030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838080" y="380880"/>
            <a:ext cx="7696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DECIMAL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4920" y="114300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If subtraction ADD the OPPOSITE*  Line up the decimals                     and add or subtra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609480" y="3654360"/>
                <a:ext cx="1974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5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3200400" y="3200400"/>
                <a:ext cx="6364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7"/>
              <p:cNvSpPr txBox="1"/>
              <p:nvPr/>
            </p:nvSpPr>
            <p:spPr>
              <a:xfrm>
                <a:off x="495360" y="5135400"/>
                <a:ext cx="19065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2975040" y="4876920"/>
                <a:ext cx="8348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9"/>
              <p:cNvSpPr txBox="1"/>
              <p:nvPr/>
            </p:nvSpPr>
            <p:spPr>
              <a:xfrm>
                <a:off x="4341960" y="5181480"/>
                <a:ext cx="13730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4267080" y="3657600"/>
                <a:ext cx="836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Check for Understand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09480" y="2133720"/>
            <a:ext cx="792504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 76 #6 – 9,           #12 – 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lease put in no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Homewor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2133720"/>
            <a:ext cx="79246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 76 #17 – 22 (ALL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#24 – 34 (EVEN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 77 #39 – 45 (ALL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#46 – 54 (EVEN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3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JOURNA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4920" y="1600200"/>
            <a:ext cx="85341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will need to post this on the wiki website in the “Homework 9-16”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Tell me what you learned toda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Explain to me the integer rules in your own wor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Did you like your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esson online? Why or Why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OT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57200" y="350532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subtraction AL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THE 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57200" y="23623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/SUBTRACT INTE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ease refer to the YouTube Video on the Wiki labeled “Number lin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457200" y="175248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arrows go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arrows go to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first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 arrow and count to get the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if Subtraction to ADD THE 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685800" y="53352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UMBER LIN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57200" y="1752480"/>
            <a:ext cx="7924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+ 5  =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 + 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 – 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1 +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+ -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– (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"/>
          <p:cNvSpPr/>
          <p:nvPr/>
        </p:nvSpPr>
        <p:spPr>
          <a:xfrm>
            <a:off x="1371600" y="2438280"/>
            <a:ext cx="3808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685800" y="53352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NUMBER LIN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pic>
        <p:nvPicPr>
          <p:cNvPr id="55" name="Picture 6" descr="dy-number-line-09"/>
          <p:cNvPicPr/>
          <p:nvPr/>
        </p:nvPicPr>
        <p:blipFill>
          <a:blip r:embed="rId1"/>
          <a:stretch/>
        </p:blipFill>
        <p:spPr>
          <a:xfrm>
            <a:off x="1143000" y="5943600"/>
            <a:ext cx="6486480" cy="343080"/>
          </a:xfrm>
          <a:prstGeom prst="rect">
            <a:avLst/>
          </a:prstGeom>
          <a:ln w="0">
            <a:noFill/>
          </a:ln>
        </p:spPr>
      </p:pic>
      <p:sp>
        <p:nvSpPr>
          <p:cNvPr id="56" name="Line 7"/>
          <p:cNvSpPr/>
          <p:nvPr/>
        </p:nvSpPr>
        <p:spPr>
          <a:xfrm>
            <a:off x="4952880" y="5791320"/>
            <a:ext cx="14479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4876920" y="57150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2057400" y="2438280"/>
            <a:ext cx="380880" cy="68580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6172200" y="5638680"/>
            <a:ext cx="380880" cy="6858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457200" y="152388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REEN is POSITIVE 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D is NEGATIVE 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ALGEBRA TI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" y="2971800"/>
            <a:ext cx="792468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1 gr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CELS ou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+ -1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3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ALGEBRA TI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57200" y="1447920"/>
            <a:ext cx="7924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2 + 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 – (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 +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 –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+ -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– (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838080" y="548640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3"/>
          <p:cNvSpPr txBox="1"/>
          <p:nvPr/>
        </p:nvSpPr>
        <p:spPr>
          <a:xfrm>
            <a:off x="6858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INTEGER RU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1752480"/>
            <a:ext cx="8686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ubtrac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DD THE OPPO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SIG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dd the number and keep the same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SIG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tract the numbers and keep the sign of the larger numb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685800" y="533520"/>
            <a:ext cx="7696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Check for Understand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09480" y="2286000"/>
            <a:ext cx="79250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 76 #4, 5, 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lease put in no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52280" y="6400800"/>
            <a:ext cx="58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Students will learn how to add and subtract rational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20:53:54Z</dcterms:created>
  <dc:creator>rasmusa</dc:creator>
  <dc:description/>
  <dc:language>en-US</dc:language>
  <cp:lastModifiedBy>Owner</cp:lastModifiedBy>
  <dcterms:modified xsi:type="dcterms:W3CDTF">2010-09-16T01:05:04Z</dcterms:modified>
  <cp:revision>14</cp:revision>
  <dc:subject/>
  <dc:title>Slide 1</dc:title>
</cp:coreProperties>
</file>